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223-FDE8-4CC9-87A6-72434AF6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E1E-8F90-4261-8E3F-301D28C3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379-B0E8-4C6A-B206-2462D3D0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58F-FA65-4F75-AC4B-97EBDCF1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C5D-5707-4250-93D2-71897BB4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67B-B52E-42A7-8142-1C5C0574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B08-5982-484A-A5E4-D48477B0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F57-6E28-41CE-8832-27C4D6AB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116-475D-4B76-9148-F2881683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CE4-C65F-4E63-8EDD-417B5774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0BB-F081-4763-922F-21406FD4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D0D-E303-40A4-98F3-0EEC62A1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F9AE-36D5-41B4-AF21-922E3744CA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79280" y="134136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Результаты</a:t>
            </a:r>
            <a:r>
              <a:rPr b="1" lang="en-US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робного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экзамена по математике                  в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 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классе, проведе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0 марта 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(базовый уровен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-230760" y="115920"/>
            <a:ext cx="99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ыполнения заданий по ОУ  (в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8000" y="981000"/>
          <a:ext cx="8928000" cy="5616720"/>
        </p:xfrm>
        <a:graphic>
          <a:graphicData uri="http://schemas.openxmlformats.org/drawingml/2006/table">
            <a:tbl>
              <a:tblPr/>
              <a:tblGrid>
                <a:gridCol w="1917720"/>
                <a:gridCol w="555480"/>
                <a:gridCol w="565200"/>
                <a:gridCol w="612720"/>
                <a:gridCol w="554040"/>
                <a:gridCol w="555840"/>
                <a:gridCol w="618840"/>
                <a:gridCol w="749520"/>
                <a:gridCol w="749160"/>
                <a:gridCol w="747720"/>
                <a:gridCol w="638280"/>
                <a:gridCol w="66348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юш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о-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у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а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мем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969"/>
          <p:cNvSpPr/>
          <p:nvPr/>
        </p:nvSpPr>
        <p:spPr>
          <a:xfrm>
            <a:off x="33400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76"/>
          <p:cNvSpPr/>
          <p:nvPr/>
        </p:nvSpPr>
        <p:spPr>
          <a:xfrm>
            <a:off x="2987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539640" y="620640"/>
            <a:ext cx="820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В пробном экзамен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о математике приня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участие 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tt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человек из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шк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Верхнеуслонск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муниципального рай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11280" y="1773360"/>
          <a:ext cx="8229600" cy="4897440"/>
        </p:xfrm>
        <a:graphic>
          <a:graphicData uri="http://schemas.openxmlformats.org/drawingml/2006/table">
            <a:tbl>
              <a:tblPr/>
              <a:tblGrid>
                <a:gridCol w="4319640"/>
                <a:gridCol w="39099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ичный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стовый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0 до 6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 до 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2 до 1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7 до 21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5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57"/>
          <p:cNvSpPr/>
          <p:nvPr/>
        </p:nvSpPr>
        <p:spPr>
          <a:xfrm>
            <a:off x="108000" y="8748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Соответств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ервичных и тестовых бал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324000" y="2602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баллов, набранных учащимися 11 класса, распределилось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1484280"/>
          <a:ext cx="8424720" cy="3651120"/>
        </p:xfrm>
        <a:graphic>
          <a:graphicData uri="http://schemas.openxmlformats.org/drawingml/2006/table">
            <a:tbl>
              <a:tblPr/>
              <a:tblGrid>
                <a:gridCol w="4440240"/>
                <a:gridCol w="3984480"/>
              </a:tblGrid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0 до 6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учеников (2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 до 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чеников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)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2 до 1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tt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учеников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</a:t>
                      </a:r>
                      <a:r>
                        <a:rPr b="1" lang="tt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7 до 21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 ученик (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35"/>
          <p:cNvSpPr/>
          <p:nvPr/>
        </p:nvSpPr>
        <p:spPr>
          <a:xfrm>
            <a:off x="468360" y="52992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району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спеваем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оставила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76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ч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наний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8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04920" y="0"/>
            <a:ext cx="883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экзамена по математике по общеобразовательным учрежд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484360" y="616572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редний первичный бал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району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10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1125360"/>
          <a:ext cx="8569440" cy="4822920"/>
        </p:xfrm>
        <a:graphic>
          <a:graphicData uri="http://schemas.openxmlformats.org/drawingml/2006/table">
            <a:tbl>
              <a:tblPr/>
              <a:tblGrid>
                <a:gridCol w="638280"/>
                <a:gridCol w="5091120"/>
                <a:gridCol w="2840040"/>
              </a:tblGrid>
              <a:tr h="64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образовательного уч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ервич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</a:t>
                      </a: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,</a:t>
                      </a: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гимназ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</a:t>
                      </a: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абережно-Морква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Шеланг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ку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оргуз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а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Большемем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720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115920"/>
            <a:ext cx="9144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оличество   тестовых   баллов,                                                     набранных   учащимися  в  разрезе  ш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981000"/>
          <a:ext cx="8569080" cy="5532480"/>
        </p:xfrm>
        <a:graphic>
          <a:graphicData uri="http://schemas.openxmlformats.org/drawingml/2006/table">
            <a:tbl>
              <a:tblPr/>
              <a:tblGrid>
                <a:gridCol w="4546440"/>
                <a:gridCol w="1262160"/>
                <a:gridCol w="689040"/>
                <a:gridCol w="690480"/>
                <a:gridCol w="692280"/>
                <a:gridCol w="688680"/>
              </a:tblGrid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гимназ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тюш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абережно-Морква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Шеланг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ку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оргуз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а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Большемем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1484280"/>
          <a:ext cx="8424720" cy="4748400"/>
        </p:xfrm>
        <a:graphic>
          <a:graphicData uri="http://schemas.openxmlformats.org/drawingml/2006/table">
            <a:tbl>
              <a:tblPr/>
              <a:tblGrid>
                <a:gridCol w="3671640"/>
                <a:gridCol w="1508400"/>
                <a:gridCol w="1755720"/>
                <a:gridCol w="1488960"/>
              </a:tblGrid>
              <a:tr h="92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преодол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я 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дол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школ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гимназ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юшин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о-Моркваш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лангов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улов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гузин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алов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мемин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84"/>
          <p:cNvSpPr/>
          <p:nvPr/>
        </p:nvSpPr>
        <p:spPr>
          <a:xfrm>
            <a:off x="179280" y="404640"/>
            <a:ext cx="864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Monotype Corsiva"/>
              </a:rPr>
              <a:t>Статистика в разрезе общеобразовательных </a:t>
            </a:r>
            <a:r>
              <a:rPr b="1" lang="tt-RU" sz="3000" spc="-1" strike="noStrike">
                <a:solidFill>
                  <a:srgbClr val="0000ff"/>
                </a:solidFill>
                <a:latin typeface="Monotype Corsiva"/>
              </a:rPr>
              <a:t>учре</a:t>
            </a:r>
            <a:r>
              <a:rPr b="1" lang="ru-RU" sz="3000" spc="-1" strike="noStrike">
                <a:solidFill>
                  <a:srgbClr val="0000ff"/>
                </a:solidFill>
                <a:latin typeface="Monotype Corsiva"/>
              </a:rPr>
              <a:t>ж</a:t>
            </a:r>
            <a:r>
              <a:rPr b="1" lang="tt-RU" sz="3000" spc="-1" strike="noStrike">
                <a:solidFill>
                  <a:srgbClr val="0000ff"/>
                </a:solidFill>
                <a:latin typeface="Monotype Corsiva"/>
              </a:rPr>
              <a:t>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-210960" y="115920"/>
            <a:ext cx="97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ыполнения заданий по рай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Диаграмма 3" descr=""/>
          <p:cNvPicPr/>
          <p:nvPr/>
        </p:nvPicPr>
        <p:blipFill>
          <a:blip r:embed="rId1"/>
          <a:stretch/>
        </p:blipFill>
        <p:spPr>
          <a:xfrm>
            <a:off x="609480" y="981000"/>
            <a:ext cx="8210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9280" y="765000"/>
          <a:ext cx="8640720" cy="5472360"/>
        </p:xfrm>
        <a:graphic>
          <a:graphicData uri="http://schemas.openxmlformats.org/drawingml/2006/table">
            <a:tbl>
              <a:tblPr/>
              <a:tblGrid>
                <a:gridCol w="2509920"/>
                <a:gridCol w="592200"/>
                <a:gridCol w="677880"/>
                <a:gridCol w="593640"/>
                <a:gridCol w="592200"/>
                <a:gridCol w="593640"/>
                <a:gridCol w="592200"/>
                <a:gridCol w="593640"/>
                <a:gridCol w="593640"/>
                <a:gridCol w="592200"/>
                <a:gridCol w="7095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юш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о-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у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а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мем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263"/>
          <p:cNvSpPr/>
          <p:nvPr/>
        </p:nvSpPr>
        <p:spPr>
          <a:xfrm>
            <a:off x="-151200" y="115920"/>
            <a:ext cx="98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ыполнения заданий по ОУ (в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3T19:00:41Z</dcterms:created>
  <dc:creator>Admin</dc:creator>
  <dc:description/>
  <dc:language>en-US</dc:language>
  <cp:lastModifiedBy>Нина Хайруллина</cp:lastModifiedBy>
  <dcterms:modified xsi:type="dcterms:W3CDTF">2022-04-19T16:48:08Z</dcterms:modified>
  <cp:revision>94</cp:revision>
  <dc:subject/>
  <dc:title>    Результаты  пробного экзамена по математике в 11классе, проведенного 29 декабря 20145года</dc:title>
</cp:coreProperties>
</file>