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886-DB75-4F15-8D1D-CCE91C9F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9FF-DC60-472C-A5F6-BF9762D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CD4-80E6-4161-B354-5EACF3B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A34-3629-4976-BFCB-30370C05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5CD-7834-40A8-933C-7C372C4F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2C7-4148-4DFD-8364-DE943110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064-9F61-4347-AF54-97DF5FD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783-CDDB-4054-8C4C-C8396CF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A15-18FF-44C1-ABD1-E5242E71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213-7468-4110-901B-07B3DDE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1BD-7728-41B3-AE83-B7A2EF3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88A-7AA1-41E5-AA1F-80D2D06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D295-BBE8-4E41-96A6-CEFFEE657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000" y="132840"/>
            <a:ext cx="85690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экзамена по математи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классе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901000" cy="5745240"/>
        </p:xfrm>
        <a:graphic>
          <a:graphicData uri="http://schemas.openxmlformats.org/drawingml/2006/table">
            <a:tbl>
              <a:tblPr/>
              <a:tblGrid>
                <a:gridCol w="2555640"/>
                <a:gridCol w="1057320"/>
                <a:gridCol w="1057320"/>
                <a:gridCol w="1057320"/>
                <a:gridCol w="1058760"/>
                <a:gridCol w="1057320"/>
                <a:gridCol w="105732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981000"/>
          <a:ext cx="8905680" cy="5472360"/>
        </p:xfrm>
        <a:graphic>
          <a:graphicData uri="http://schemas.openxmlformats.org/drawingml/2006/table">
            <a:tbl>
              <a:tblPr/>
              <a:tblGrid>
                <a:gridCol w="3174840"/>
                <a:gridCol w="1146240"/>
                <a:gridCol w="1146240"/>
                <a:gridCol w="1146240"/>
                <a:gridCol w="1146240"/>
                <a:gridCol w="114588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3"/>
          <p:cNvSpPr/>
          <p:nvPr/>
        </p:nvSpPr>
        <p:spPr>
          <a:xfrm>
            <a:off x="0" y="260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Геометрия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1268280"/>
          <a:ext cx="8640720" cy="5303880"/>
        </p:xfrm>
        <a:graphic>
          <a:graphicData uri="http://schemas.openxmlformats.org/drawingml/2006/table">
            <a:tbl>
              <a:tblPr/>
              <a:tblGrid>
                <a:gridCol w="490320"/>
                <a:gridCol w="6762960"/>
                <a:gridCol w="1387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Алгеб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Геомет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доказательные рассуждения при решении задач, оценивать логическую правильность рассуждений, распознавать ошибочные 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86"/>
          <p:cNvSpPr/>
          <p:nvPr/>
        </p:nvSpPr>
        <p:spPr>
          <a:xfrm>
            <a:off x="539640" y="260280"/>
            <a:ext cx="8280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69920" y="836640"/>
          <a:ext cx="8870760" cy="5103720"/>
        </p:xfrm>
        <a:graphic>
          <a:graphicData uri="http://schemas.openxmlformats.org/drawingml/2006/table">
            <a:tbl>
              <a:tblPr/>
              <a:tblGrid>
                <a:gridCol w="3132000"/>
                <a:gridCol w="995400"/>
                <a:gridCol w="995400"/>
                <a:gridCol w="765360"/>
                <a:gridCol w="1225440"/>
                <a:gridCol w="782640"/>
                <a:gridCol w="97452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"/>
          <p:cNvSpPr/>
          <p:nvPr/>
        </p:nvSpPr>
        <p:spPr>
          <a:xfrm>
            <a:off x="-15840" y="189000"/>
            <a:ext cx="883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 по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2060640"/>
          <a:ext cx="8496000" cy="338616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3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8000" y="765000"/>
          <a:ext cx="8856720" cy="5999400"/>
        </p:xfrm>
        <a:graphic>
          <a:graphicData uri="http://schemas.openxmlformats.org/drawingml/2006/table">
            <a:tbl>
              <a:tblPr/>
              <a:tblGrid>
                <a:gridCol w="399960"/>
                <a:gridCol w="2701800"/>
                <a:gridCol w="1262160"/>
                <a:gridCol w="1123920"/>
                <a:gridCol w="1123920"/>
                <a:gridCol w="1122480"/>
                <a:gridCol w="11224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836640"/>
          <a:ext cx="8785440" cy="527364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620640"/>
          <a:ext cx="8856720" cy="6120000"/>
        </p:xfrm>
        <a:graphic>
          <a:graphicData uri="http://schemas.openxmlformats.org/drawingml/2006/table">
            <a:tbl>
              <a:tblPr/>
              <a:tblGrid>
                <a:gridCol w="2806920"/>
                <a:gridCol w="1135080"/>
                <a:gridCol w="1285920"/>
                <a:gridCol w="1284120"/>
                <a:gridCol w="1362240"/>
                <a:gridCol w="98244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ьши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ьши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14"/>
          <p:cNvSpPr/>
          <p:nvPr/>
        </p:nvSpPr>
        <p:spPr>
          <a:xfrm>
            <a:off x="107640" y="115920"/>
            <a:ext cx="944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30040" y="981000"/>
          <a:ext cx="8680680" cy="5472360"/>
        </p:xfrm>
        <a:graphic>
          <a:graphicData uri="http://schemas.openxmlformats.org/drawingml/2006/table">
            <a:tbl>
              <a:tblPr/>
              <a:tblGrid>
                <a:gridCol w="527040"/>
                <a:gridCol w="3202200"/>
                <a:gridCol w="961920"/>
                <a:gridCol w="1655640"/>
                <a:gridCol w="2333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 +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526"/>
          <p:cNvSpPr/>
          <p:nvPr/>
        </p:nvSpPr>
        <p:spPr>
          <a:xfrm>
            <a:off x="-719640" y="188640"/>
            <a:ext cx="1058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Количество учащихся, не преодолевших порог по модул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 flipV="1">
            <a:off x="6877080" y="1125000"/>
            <a:ext cx="0" cy="453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700360" y="14367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М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ль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Алгебр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020000" y="1484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093080" y="10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дуль «Геометр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108000" y="115920"/>
            <a:ext cx="88567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18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021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7" descr=""/>
          <p:cNvPicPr/>
          <p:nvPr/>
        </p:nvPicPr>
        <p:blipFill>
          <a:blip r:embed="rId1"/>
          <a:stretch/>
        </p:blipFill>
        <p:spPr>
          <a:xfrm>
            <a:off x="171360" y="963720"/>
            <a:ext cx="8801280" cy="5351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79280" y="0"/>
            <a:ext cx="83534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30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022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 flipV="1">
            <a:off x="6804000" y="1267920"/>
            <a:ext cx="0" cy="468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929800" cy="4973760"/>
        </p:xfrm>
        <a:graphic>
          <a:graphicData uri="http://schemas.openxmlformats.org/drawingml/2006/table">
            <a:tbl>
              <a:tblPr/>
              <a:tblGrid>
                <a:gridCol w="2836800"/>
                <a:gridCol w="760320"/>
                <a:gridCol w="762120"/>
                <a:gridCol w="762120"/>
                <a:gridCol w="760320"/>
                <a:gridCol w="762120"/>
                <a:gridCol w="761760"/>
                <a:gridCol w="762120"/>
                <a:gridCol w="762120"/>
              </a:tblGrid>
              <a:tr h="50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Нина Хайруллина</cp:lastModifiedBy>
  <dcterms:modified xsi:type="dcterms:W3CDTF">2022-04-14T16:58:57Z</dcterms:modified>
  <cp:revision>80</cp:revision>
  <dc:subject/>
  <dc:title>Слайд 1</dc:title>
</cp:coreProperties>
</file>