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413-8C44-40FF-85CF-234133AE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867-C478-4DF0-8D4C-2A8856F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06D-8F23-4190-A647-DB6057FA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125-421C-4688-95DA-22313821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D015-04DB-4844-B877-CA98FCE8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E006-1670-449F-A595-C807308B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D827-8266-4D67-9786-CB83B7F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71B3-FE89-43B0-809B-ACB73FEC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86A8-1BD1-4109-93FB-9A00575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801B-48F0-4F43-9A84-0A0D36F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45EF-D93F-4BBD-8B6C-80A65F9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2CE-780A-4BCC-AAA5-69C19E05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CE16-E51B-46CC-B768-D64836C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D0B7-4BEF-49B9-86BD-08D2A3B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9D7-6E21-4EAD-8D63-2A91C46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F0A-7384-4493-BD0E-2EB07976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812A-CC1C-4849-A146-C8654741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2C0B-75AC-472D-A9C4-A307B777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9594-BA35-4239-973E-012C9E5D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2709-1E37-4207-AFAB-2C499AE2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B9E6-C609-47DB-93BC-6873E0AA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2EF5-8F42-4458-8F29-29A84504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932-7E8B-443E-96F2-C129F262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2D1D-C6AA-4C75-AB32-8CE3360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29AB-B693-41DA-8CEE-35AB045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0EEE-F610-4E74-ABBF-4557158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DB69-4963-4C31-9E00-6141ADF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27B9-517A-400C-8407-620C019F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D0FC-6267-4A20-BCE6-E23E1ED1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EC1C-A9FD-4FF0-9EDB-242F3694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B5C-7ACF-4882-830C-87656C80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171-91B6-4ACE-86E0-FDBFA2C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02C-E894-4B36-8D24-4C4D4B80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EFC-8D03-4031-B39E-B78640C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9BE-695E-40BE-868B-223A818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BDA-C124-40B6-8BD2-E639930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082C-A993-4259-B9C1-199FA2632EE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3D3-ACCB-48D3-97B0-7C17068D0BE3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945C-A0D1-4B46-BD5D-31462ED07042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экзамена по математике в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классе, проведённого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(профильный уровень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547640" y="5493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557360"/>
          <a:ext cx="7486920" cy="4183200"/>
        </p:xfrm>
        <a:graphic>
          <a:graphicData uri="http://schemas.openxmlformats.org/drawingml/2006/table">
            <a:tbl>
              <a:tblPr/>
              <a:tblGrid>
                <a:gridCol w="632160"/>
                <a:gridCol w="3584520"/>
                <a:gridCol w="1092240"/>
                <a:gridCol w="1085760"/>
                <a:gridCol w="1092240"/>
              </a:tblGrid>
              <a:tr h="83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916280"/>
          <a:ext cx="8589960" cy="3387600"/>
        </p:xfrm>
        <a:graphic>
          <a:graphicData uri="http://schemas.openxmlformats.org/drawingml/2006/table">
            <a:tbl>
              <a:tblPr/>
              <a:tblGrid>
                <a:gridCol w="630360"/>
                <a:gridCol w="2635200"/>
                <a:gridCol w="716040"/>
                <a:gridCol w="701640"/>
                <a:gridCol w="357120"/>
                <a:gridCol w="360360"/>
                <a:gridCol w="698400"/>
                <a:gridCol w="442800"/>
                <a:gridCol w="443160"/>
                <a:gridCol w="717480"/>
                <a:gridCol w="442800"/>
                <a:gridCol w="4446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810"/>
          <p:cNvSpPr/>
          <p:nvPr/>
        </p:nvSpPr>
        <p:spPr>
          <a:xfrm>
            <a:off x="900000" y="65865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19"/>
          <p:cNvSpPr/>
          <p:nvPr/>
        </p:nvSpPr>
        <p:spPr>
          <a:xfrm>
            <a:off x="684360" y="558972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0"/>
          <p:cNvSpPr/>
          <p:nvPr/>
        </p:nvSpPr>
        <p:spPr>
          <a:xfrm>
            <a:off x="971640" y="566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не приступ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– выполнили 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53880" y="1298520"/>
          <a:ext cx="8697960" cy="4919760"/>
        </p:xfrm>
        <a:graphic>
          <a:graphicData uri="http://schemas.openxmlformats.org/drawingml/2006/table">
            <a:tbl>
              <a:tblPr/>
              <a:tblGrid>
                <a:gridCol w="471600"/>
                <a:gridCol w="2033640"/>
                <a:gridCol w="604800"/>
                <a:gridCol w="573120"/>
                <a:gridCol w="334800"/>
                <a:gridCol w="574920"/>
                <a:gridCol w="334800"/>
                <a:gridCol w="335160"/>
                <a:gridCol w="568080"/>
                <a:gridCol w="370080"/>
                <a:gridCol w="573120"/>
                <a:gridCol w="573120"/>
                <a:gridCol w="574560"/>
                <a:gridCol w="441360"/>
                <a:gridCol w="334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525"/>
          <p:cNvSpPr/>
          <p:nvPr/>
        </p:nvSpPr>
        <p:spPr>
          <a:xfrm>
            <a:off x="360360" y="47628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экзамене                   по математике приняли участие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человек                      из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6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общеобразовательных учрежде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, распределилось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276640"/>
          <a:ext cx="8229600" cy="4103640"/>
        </p:xfrm>
        <a:graphic>
          <a:graphicData uri="http://schemas.openxmlformats.org/drawingml/2006/table">
            <a:tbl>
              <a:tblPr/>
              <a:tblGrid>
                <a:gridCol w="4336920"/>
                <a:gridCol w="3892680"/>
              </a:tblGrid>
              <a:tr h="158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5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ученик</a:t>
                      </a:r>
                      <a:r>
                        <a:rPr b="1" lang="tt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до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ученико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еника (31%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99"/>
          <p:cNvSpPr/>
          <p:nvPr/>
        </p:nvSpPr>
        <p:spPr>
          <a:xfrm>
            <a:off x="684360" y="692280"/>
            <a:ext cx="77403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2133720"/>
          <a:ext cx="8713800" cy="2722320"/>
        </p:xfrm>
        <a:graphic>
          <a:graphicData uri="http://schemas.openxmlformats.org/drawingml/2006/table">
            <a:tbl>
              <a:tblPr/>
              <a:tblGrid>
                <a:gridCol w="649080"/>
                <a:gridCol w="5176800"/>
                <a:gridCol w="2887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556"/>
          <p:cNvSpPr/>
          <p:nvPr/>
        </p:nvSpPr>
        <p:spPr>
          <a:xfrm>
            <a:off x="2195640" y="58053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 району – 9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1985040" y="692280"/>
            <a:ext cx="130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 в разрезе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8000" y="1557360"/>
          <a:ext cx="8785080" cy="3754440"/>
        </p:xfrm>
        <a:graphic>
          <a:graphicData uri="http://schemas.openxmlformats.org/drawingml/2006/table">
            <a:tbl>
              <a:tblPr/>
              <a:tblGrid>
                <a:gridCol w="2733480"/>
                <a:gridCol w="1247760"/>
                <a:gridCol w="454320"/>
                <a:gridCol w="422280"/>
                <a:gridCol w="368280"/>
                <a:gridCol w="409320"/>
                <a:gridCol w="336600"/>
                <a:gridCol w="414360"/>
                <a:gridCol w="308160"/>
                <a:gridCol w="433440"/>
                <a:gridCol w="371160"/>
                <a:gridCol w="414360"/>
                <a:gridCol w="436680"/>
                <a:gridCol w="43488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1628640"/>
          <a:ext cx="8423280" cy="4310280"/>
        </p:xfrm>
        <a:graphic>
          <a:graphicData uri="http://schemas.openxmlformats.org/drawingml/2006/table">
            <a:tbl>
              <a:tblPr/>
              <a:tblGrid>
                <a:gridCol w="353880"/>
                <a:gridCol w="3321000"/>
                <a:gridCol w="1589400"/>
                <a:gridCol w="1422360"/>
                <a:gridCol w="1736640"/>
              </a:tblGrid>
              <a:tr h="99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не преодолели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гимназ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ку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оргуз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ура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305"/>
          <p:cNvSpPr/>
          <p:nvPr/>
        </p:nvSpPr>
        <p:spPr>
          <a:xfrm>
            <a:off x="-1352160" y="765000"/>
            <a:ext cx="1191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учре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907920"/>
          <a:ext cx="8713800" cy="5819760"/>
        </p:xfrm>
        <a:graphic>
          <a:graphicData uri="http://schemas.openxmlformats.org/drawingml/2006/table">
            <a:tbl>
              <a:tblPr/>
              <a:tblGrid>
                <a:gridCol w="970200"/>
                <a:gridCol w="5167080"/>
                <a:gridCol w="722520"/>
                <a:gridCol w="1131840"/>
                <a:gridCol w="72216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ешать уравнения и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вычисления и пре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93"/>
          <p:cNvSpPr/>
          <p:nvPr/>
        </p:nvSpPr>
        <p:spPr>
          <a:xfrm>
            <a:off x="-33480" y="25956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1409400" y="907920"/>
            <a:ext cx="12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1700280"/>
          <a:ext cx="8493120" cy="2754360"/>
        </p:xfrm>
        <a:graphic>
          <a:graphicData uri="http://schemas.openxmlformats.org/drawingml/2006/table">
            <a:tbl>
              <a:tblPr/>
              <a:tblGrid>
                <a:gridCol w="426960"/>
                <a:gridCol w="2452680"/>
                <a:gridCol w="596880"/>
                <a:gridCol w="736560"/>
                <a:gridCol w="736560"/>
                <a:gridCol w="735120"/>
                <a:gridCol w="736560"/>
                <a:gridCol w="736560"/>
                <a:gridCol w="596880"/>
                <a:gridCol w="73836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1844640"/>
          <a:ext cx="8466120" cy="3989520"/>
        </p:xfrm>
        <a:graphic>
          <a:graphicData uri="http://schemas.openxmlformats.org/drawingml/2006/table">
            <a:tbl>
              <a:tblPr/>
              <a:tblGrid>
                <a:gridCol w="936720"/>
                <a:gridCol w="4997160"/>
                <a:gridCol w="698760"/>
                <a:gridCol w="1135080"/>
                <a:gridCol w="698400"/>
              </a:tblGrid>
              <a:tr h="1178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285"/>
          <p:cNvSpPr/>
          <p:nvPr/>
        </p:nvSpPr>
        <p:spPr>
          <a:xfrm>
            <a:off x="138600" y="83664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Нина Хайруллина</cp:lastModifiedBy>
  <dcterms:modified xsi:type="dcterms:W3CDTF">2022-04-13T13:48:00Z</dcterms:modified>
  <cp:revision>176</cp:revision>
  <dc:subject/>
  <dc:title>Этапы компьютерного моделирования</dc:title>
</cp:coreProperties>
</file>